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95C96-30CA-4D12-9F84-8EBA1CBF8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4859A-32F0-45E0-8A72-A523D0907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02AED-6492-4E34-9DB1-72F54A48A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A37F6-3B9F-4520-B9BB-224362F0C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0F3AD-3C6F-49D4-B973-06DD0332D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CC61E-03FF-4B53-AC7B-ED19E4B6A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1EEDE-A077-4F65-842A-98CE109F2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96DB1-6661-4B14-B4F5-DB54B3032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E09F2-F0BD-4310-9001-3C313247C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26BA1-05C5-4FBF-805A-6273DC728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AFFB1-EA01-4462-A8DE-D5997AFF5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C3484-A1E9-4493-A0FC-5250B18AF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8ADB29-E924-42E6-B3EC-C8970E8B39D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F0093B-AB3B-44EF-AA93-D1A140A593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dictionary.reference.com/browse/revolution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nytimes.com/slideshow/2011/02/06/weekinreview/06revolution-slideshow.html" TargetMode="Externa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ical Revolu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Mr. Rush/ Mr. Farrel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we will do toda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at you will d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fine Revolu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mpare/ Contrast Revolu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search a revolu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bjectiv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dentify/analyze issu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xplain how individuals/ groups (governmental and ngo’s) influence issu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alyze how current issues/possible solutions may be viewed differently by cultural group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alyze ways countries/ groups respond to unity vs. diversity ques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fine Revolu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your group, collaborate and write out a definition for Revolution on your pos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5 minu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your definition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your definitio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are the definitions simila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are these definitions differen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definition of Revolution-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dictionary.reference.com/browse/revolu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are/ Contrast Revolu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What are the commonalities and differences between and among these uprisings?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Without the captions, what story do these photographs tell? If you had not read the captions, what would you think that this slide show was about? Why?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Do all of the events included in this slide show fit our definition of revolution? If not, which ones do not fit our definition and why?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What questions do you come away from this slide show with? Which of these events would you like to know more about?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Show Revolu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nytimes.com/slideshow/2011/02/06/weekinreview/06revolution-slideshow.htm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are/ Contrast Revolu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What are the commonalities and differences between and among these uprisings?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Without the captions, what story do these photographs tell? If you had not read the captions, what would you think that this slide show was about? Why?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Do all of the events included in this slide show fit our definition of revolution? If not, which ones do not fit our definition and why?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What questions do you come away from this slide show with? Which of these events would you like to know more about?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1T16:51:14Z</dcterms:created>
  <dc:creator>Craig Rush</dc:creator>
  <dc:description/>
  <dc:language>en-US</dc:language>
  <cp:lastModifiedBy>Craig Rush</cp:lastModifiedBy>
  <dcterms:modified xsi:type="dcterms:W3CDTF">2011-02-21T17:07:29Z</dcterms:modified>
  <cp:revision>1</cp:revision>
  <dc:subject/>
  <dc:title>Historical Revolutions</dc:title>
</cp:coreProperties>
</file>